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9.wmf" ContentType="image/x-wmf"/>
  <Override PartName="/ppt/media/image17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A76A-AEFF-4663-B300-BC3CEB88C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8D88-DEA5-4C90-B72B-8B7C0FA19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D099-BEBC-4A08-B8A9-1C8D5EE32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27CD-AA00-4FAB-A5BD-7DE8B3EF1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B83DF-E3E5-40A0-BB09-3F5DF4E6AB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D7D7-0E08-4FE3-A21C-419E506D51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0CAA6-D681-43F9-94C8-0221C46833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72F0-F579-4E1C-81DC-B3BEAC8D2B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78253-ECA0-4A46-9B0D-ED514FF73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67BEF-D8F5-4644-8225-0813AE2843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86B68-A4C3-4111-9EA5-477386DF0B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ACC8-FD6F-4438-822F-EBA744037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EBDE7-1414-4D9E-B6E7-6E8BD4B2E1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B93BF-10CC-4065-87A7-33066F2234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72FF4-BFDC-43C3-B9B6-142F96FE45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5D5DF-71B1-402D-83F7-22504E7F5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95627-F1C3-4FDA-ABE8-FD92630DE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498D-F8AA-4F0E-8F8B-49E3F99A8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4DD8-6A1B-4889-BB5C-387EDE896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07D7-7CA1-49F7-939E-B8E1D1318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31DF-E3AB-4316-A3E8-55A0E913B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7D84-5A64-4837-AE29-EEDED6241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398B-352C-41A5-822A-A6A5213E4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24EB-4FE0-4FE3-B688-C9CB7DEC0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25F7044-93A0-428A-B27B-7F368ECB01A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F9E59DF-2416-4D41-8DF2-0BA70F516F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346720" y="393840"/>
            <a:ext cx="33480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292720" y="399960"/>
            <a:ext cx="3564000" cy="540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8E03EFE-1655-4D49-B41F-54B52B15838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59BA55B-59B4-43DA-8300-00A3C6A47DB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7-07-03T08:54:52Z</dcterms:modified>
  <cp:revision>312</cp:revision>
  <dc:subject/>
  <dc:title>REGRESSION ANALYSIS</dc:title>
</cp:coreProperties>
</file>